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071A-0296-427B-B592-55924B43D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712-5260-40EB-8074-62021C3DD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E446-DDA2-4424-A400-5C13F7D6A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ED32-AE3C-426D-8836-7EDD9025A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4BF4-B719-4DD1-9585-A5D97C4E4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E2A8-429C-4F03-A716-0A85649C9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BA13-2B06-49B1-969D-FE754655A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3F01-4525-4E11-9BA0-386A63719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3510-F4F1-44A6-AB4C-FC029A29C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8E29-9459-4FFB-B425-8A5CDC77E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ACE1-2798-4BFD-8990-4A174391C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3193-6FD6-4D29-91AD-F3AAEB3CC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6988-CC18-448C-A674-7E042DF68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5152-7346-456A-A411-2475D9C27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2E4F-6DC2-44DE-A57D-A4327172E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1B80-B7D2-42D9-BAE1-3518970C1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88B6-B6D0-4134-A73A-87816327E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DE33-7748-45FA-A956-F01AB6F83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1F85-3B82-4F55-BDAD-FEB0ECF3F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2D31-E643-4A0E-91A7-F6F789D5F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611-9C08-4FE8-9E41-58252EA3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293-7E5C-4D65-9FE9-E8D8DF78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C37-5B9B-4332-8B2B-D325CC12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F6E-86CD-43EB-929A-03E45A61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412F-1CE8-4A3A-B256-7CBAD92C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15CA-9176-4F8E-A42B-9EC1B7EB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1657-CFC6-4D9A-9D3B-BDC07865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8509-C41F-4F08-A113-04941154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8C75-7784-48DD-8CFD-B4E545D8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9AC9-DCD5-46B0-A313-4EC711DE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C8BC-92FB-49EE-B368-D55B0DE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0CF-F77B-42D5-8C75-B6BF5AC4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F051-FAD8-4C02-AC6F-53A33692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F739-2CAE-4C26-9D05-FCFDEA07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29F5-AD7E-4033-9E97-985BB0A2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9B72-ED09-494A-A31D-671C8376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804F-BC2A-4A8B-82B9-197E9CBC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F357-721D-45C3-8A12-7881A128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7E64-9FCB-4FD5-A333-2A951FA0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5149-7E18-40EB-9D49-0D36C2FB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D59CA-7261-4F7A-8C07-DEB11979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98C1-4D6D-499C-947C-48141B55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B48-DC0F-4517-A7DF-7D24DEDC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8935-E992-4138-9DA1-E55CDA52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D3C64-B4EF-49D2-BD8C-9696737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63B6-C924-4D15-8C3B-BBC2FE47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A3351-D202-4CE6-A3F8-AE7AA905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1C48-2A44-4B5D-9DBA-00D44BE1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4281-5FE5-4823-A462-955308D4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137E-68A7-4B55-A00F-9C7469A5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F1008-B147-4BC9-B2AE-7D240B0F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75F11-C9F3-4C15-A3B9-5F099E5F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C3132-27FC-47B2-8243-C9C8A93D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C52-3573-4D61-AC08-4A2EB366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023B3-C934-4474-BDC1-43B64D74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29F10-E300-4C8C-8C62-BE48DED2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F5C6F-24D7-4C0D-BDD8-FEC7799F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E20AA-D80F-4279-9C8D-3A0B295C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32D6-4A25-48F9-92A0-7CED184C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B791E-ADD5-4848-99CC-DCE9E3F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8ACC-C64F-45B5-B279-3D91800F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B15A7-5FBB-497E-B4FC-31A97F97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9169-0C9F-42BB-B6E7-39AE53F4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0643D-1D8C-44A4-B3E0-B22CE187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451-FBFF-4ED4-A570-9D1B0A77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1A47-F6FB-4FAF-A6D3-4B9AEE21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CD90A-5807-4A6D-90C5-F91E2C15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FC1A-C34B-43E0-8806-81BFA31C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192A-5B17-4012-8AD6-5B2BDA58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3D09-234B-4812-A83C-BD22A327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456CB-7EFA-48E4-8448-5C6C5DE4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B8827-837F-4791-9911-27309372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A1F6A-5C99-4F80-9793-DCBEBFF3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AEB08-E27E-4180-A038-2FC4239C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0B99A-5A2D-4432-9472-77C11B4B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EA6-BE16-48FF-8545-E5A3B5E3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194BE-4339-45BD-8FB6-7E1830E6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227-6299-4500-A256-7E9D90C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CA1-13E1-43F0-97E7-CEB65E4D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6A1-C204-47C4-ABD8-1EE52AC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BFA2-842D-4485-99CC-ED9E7BE143E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831F-BB0C-47D9-96B9-5EF8B8E8D217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5217-3EBB-44FB-AEF2-AB38EE259A2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F580-9CFF-4054-995C-D7D674C1D6E2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67C4-8B4C-4DAA-B199-DFFEE0CF50D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Tuesday, Feb. 9, 2010    6 - 8 pm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3124080" y="5029200"/>
            <a:ext cx="586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igned &amp; Led by Professional Learn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il Nalven and Ayala Rybak, Lead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an Block, Education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san Ticker, LOMED Consul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are the big ideas that pop out? Are there any them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are the big ideas that pop out? Are there any them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does this tell us about the situations that have the greatest impact on our lives and shape who we are as Jew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f education in our congregation purposely set out to create these kinds of experiences with these characteristic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f education in our congregation purposely set out to create these kinds of experiences with these characteristic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would the results be different? What might be the impact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the children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their parents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our congregation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ourselves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earners will be on a journey of tikkun olam (mending the world) guided by a Jewish moral compas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arners will develop the knowledge, the sense of belonging, the values/beliefs and skills and habits to contribute to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mending the world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mentary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wish tradition serves as a guide to understanding issues of social justice and social action and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chesed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by working on these issues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arners who achieve this priority goal engage in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world repair) through learning value concepts and their connection to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mitzvo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by studying Jewish sources, acting and reflecting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06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57200" y="2741760"/>
            <a:ext cx="72388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pic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read of Affliction – Ha Lachma Any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Tube Vide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werful Learning Pl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3" descr=""/>
          <p:cNvPicPr/>
          <p:nvPr/>
        </p:nvPicPr>
        <p:blipFill>
          <a:blip r:embed="rId1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Light"/>
              </a:rPr>
              <a:t>learner  outcomes measurement  for effective  educational desig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2" name="Picture Placeholder 6" descr="Stefanie photo 1.jpg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684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stands out for you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123720" y="160020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chool should be more like cam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wer of experiential learning over form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alue of lifelong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joyed the chance to share with colleag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rontal approach crowds out powerful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’s next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culty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rch 16 with Haz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ril 13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y 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aching with Tikkun Olam in min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nection Ques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ext Stu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re Convers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800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ority Goal – Tikkun Ola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morable Experien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ole Person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Cognitive Learning: Know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Affective Learning: Believing and Belong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Authentic Living: Do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understand the Priority Goal and will be able to explain it to others (parents and children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reflect on their own memorable Jewish experiences and see them as a model of what they could provide for their own learne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be inspired by the Priority Go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[Future Sessions] Teachers will identify one lesson where they can incorporate the concept of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nto a learning experienc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[Future Sessions] Teachers will develop learner outcomes that include affective realm (KDBB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c6c"/>
                </a:solidFill>
                <a:latin typeface="Trebuchet MS"/>
              </a:rPr>
              <a:t>Please share your favorite thing to teach and why it is special to you.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Helene: Holocaust – increase empathy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Aliza: Holocaust – connect with Jewish people; Hebrew; etc.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Yona: Hebrew 3</a:t>
            </a:r>
            <a:r>
              <a:rPr b="0" lang="en-US" sz="2000" spc="-1" strike="noStrike" baseline="30000">
                <a:solidFill>
                  <a:srgbClr val="6c6c6c"/>
                </a:solidFill>
                <a:latin typeface="Trebuchet MS"/>
              </a:rPr>
              <a:t>rd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 Grade; Prayers; Torah stories – cuz I’m good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Karen: Holocaust – personal history; Hebrew – aha moment; Art – Hebrew calligraphy to see boys shine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Gail: Jewish text – see learner apply it (drama, writing in own words, adapting to show understanding)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Alan: sociology – helping kids learn to ask questions: C.Rogers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Ayala: Israel to 4</a:t>
            </a:r>
            <a:r>
              <a:rPr b="0" lang="en-US" sz="2000" spc="-1" strike="noStrike" baseline="30000">
                <a:solidFill>
                  <a:srgbClr val="6c6c6c"/>
                </a:solidFill>
                <a:latin typeface="Trebuchet MS"/>
              </a:rPr>
              <a:t>th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 Grade – helping kids connect in meaningful way; introduce and bring country closer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morable Jewish Learning Experie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here: Identify the Context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hat: Describe the Experience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hy: Explain why it was memorable to you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Gail  - learner’s minyan, power of prayer, transformative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Ayala – int’l school for holocaust studies, content learning, wealth of information, thought provoking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Karen – visiting yad vashem, record of family, 1967 expo, powerful imagery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Aliza – receiving ordination, moved by the presence of Reb Zalman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Helene – Hearing Elie Wiesel in college, feeling his words heart and soul, awakening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Alan – trip to Israel, looking upon open view of Jerusalem, feeling a sense of “home”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Susan – Avad group at camp, leading rosh chodesh celebration same day as first walk on the moon, powerful connection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22:03:18Z</dcterms:created>
  <dc:creator>tickers</dc:creator>
  <dc:description/>
  <dc:language>en-US</dc:language>
  <cp:lastModifiedBy>tickers</cp:lastModifiedBy>
  <dcterms:modified xsi:type="dcterms:W3CDTF">2010-03-12T00:35:52Z</dcterms:modified>
  <cp:revision>18</cp:revision>
  <dc:subject/>
  <dc:title>KTI Faculty LOMED Professional Learning </dc:title>
</cp:coreProperties>
</file>